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F5C-1436-4034-98DA-F562784B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13C-F29B-4437-8F06-D093BD9A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20B-7B89-4A86-B03B-2A0F2969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247-7F78-45D7-AD89-B1195D61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39D-A01C-49C4-8967-F4D0CAA6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E3C-6801-44AE-B902-DFDE2BD9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9F7-AF9B-4A23-8ADC-34263A8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0B9-E455-453A-9BF4-90168421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246-6676-45D7-80F3-F14F4E90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3FA-5930-4CEF-84D7-3F69C8E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1E3-FE38-4866-BA84-DDFDDF06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D9C-D930-414B-91A2-471A12E4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7D32-C407-4F7A-84AA-A03CE705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r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r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r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r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r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r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r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ar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r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r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r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r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r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10:09Z</dcterms:created>
  <dc:creator>fabio.medessi</dc:creator>
  <dc:description/>
  <dc:language>en-US</dc:language>
  <cp:lastModifiedBy>fabio.medessi</cp:lastModifiedBy>
  <dcterms:modified xsi:type="dcterms:W3CDTF">2010-07-20T08:10:15Z</dcterms:modified>
  <cp:revision>1</cp:revision>
  <dc:subject/>
  <dc:title>Presentazione di PowerPoint</dc:title>
</cp:coreProperties>
</file>